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AE2-BE32-4D81-B665-54F6F46F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E1A-79E4-4F49-8BFD-56E0BC79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F402-779D-4E57-B4C8-75C464EE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CA9-43B5-40C5-8868-49E21389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8044-7723-4884-8B6E-00173D83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63CC-932B-4EF4-9822-559D3523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0883-8976-4A10-971F-5A61F28D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FBA3-1EAD-4763-9144-4E09C79A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96FA-4590-4A81-BCEA-CB763F94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ED1E-001C-4121-AC12-664D7A93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18C2-1E01-48B2-9D28-5CC26FBD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213-88D8-4963-89D1-B3BC67F1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F449-AFD3-4D86-85AB-A1C6B324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3538-FA77-4E55-A719-21C09746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036D-7C3E-4C9F-AD99-03715BB3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6443-B603-4E8E-B4FC-02E80ACC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3C47-2800-4020-9227-AEAA7808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065-9537-4A95-9ABC-1A88A4F5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F37C-6AEB-4EC6-A02D-757644DD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861-FC8A-4D01-B20B-5A5CC4AE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2DD0-9C13-4FDF-82C8-ED6EB287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B43-6D01-4E6D-85F4-5AF97B12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109-A03C-4F9E-933B-D5FBDA07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8C5-C240-4A3E-A8F5-DE50C37E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4B8E-0CCC-4B05-B787-24D4B36049D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1698-1262-46DD-ACCD-0BB7B9AE2E2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3366"/>
                </a:solidFill>
                <a:latin typeface="Arial"/>
              </a:rPr>
              <a:t>БОЛНИЧКЕ</a:t>
            </a: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5400" spc="-1" strike="noStrike">
                <a:solidFill>
                  <a:srgbClr val="003366"/>
                </a:solidFill>
                <a:latin typeface="Arial"/>
              </a:rPr>
              <a:t>ИНФЕКЦИЈЕ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ЛАСИФИКАЦИЈА БОЛНИЧКИХ ИНФЕКЦИЈА ПРЕМА АНАТОМСКОЈ ЛОКАЛИЗАЦИЈ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. ИНФЕКЦИЈЕ КОШТАНО-ЗГЛОБНОГ СИСТЕ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 Остеом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елити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 Инфекција зглоба и бурзе                  3. Инфекција интервертебралног простор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I. ИНФЕКЦИЈЕ КАРДИОВАСКУЛАРНОГ СИСТЕ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 Артеритис и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лебити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 Ендо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ардитис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 Мyо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ардитис или пери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ардити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 Медиастинитис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II. ИНФЕКЦИЈЕ ЦЕНТРАЛНОГ НЕРВНОГ СИСТЕ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 Интракранијална инфекц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 Менингитис или вентри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улитис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 Спинални апсцес без менингитис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III. ИНФЕКЦИЈЕ ОКА, УХА И НОС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оњу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к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вити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 Друге инфекције ок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 Отитис еxтер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 Отитис меди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. Отитис интер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6. Мастоидитис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. Сину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тис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ЛАСИФИКАЦИЈА БОЛНИЧКИХ ИНФЕКЦИЈА ПРЕМА АНАТОМСКОЈ ЛОКАЛИЗАЦИЈ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X. ИНФЕКЦИЈЕ СИСТЕМА ЗА ВАРЕЊ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 Инфекција усне дупље (уста, језика и десни)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 Гастроентеритис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 Некротизирајући ентеро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олитис код детета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4. Инфекција једњака, желуца и цре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5. Хепатитис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6. Интраабдоминална инфекциј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. ИНФЕКЦИЈЕ СИСТЕМА ЗА ДИСАЊЕ (изузев пнеумониј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 Инфекција горњег дела система за дисање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 Бронхитис, трахеитис, трахеобронхитис и 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бронхиолитис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 Друге инфекције доњег дела система за дисањ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I. ИНФЕКЦИЈЕ ПОЛНОГ СИСТЕ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 Ендометритис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 Инфекција епизиотомиј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 Инфекција вагиналног свода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4. Друге инфекције мушког и женског полног систем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II. ИНФЕКЦИЈЕ КОЖЕ И МЕКИХ ТКИ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 Инфекције коже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 Инфекције меких тки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 Инфекција декубитусног улкуса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4. Инфекција опекотин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5. Апсцес дојке или маститис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6. Ом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ф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алитис код новорођенче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7. Пустулоза код детета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8. Инфекција места циркумцизије код новорођенче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III. СИСТЕМСКЕ ИНФЕКЦИЈ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ДА ЛИ ЈЕ ЗДРАВСТВЕНИ РАДНИК ИЗВОР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ТРАНСМИСИЈЕ ИХИ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отребно је да сви здравствени радници буду упознати са ризиком настанка инфекција и путевима трансмисије патоге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64000" y="2421000"/>
            <a:ext cx="2202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ДА ЛИ ЈЕ ЗДРАВСТВЕНИ РАДНИК ИЗВОР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ТРАНСМИСИЈЕ ИХИ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За процену ризика трансмисије неопходно је узети у обзир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гућност, квалитет, квантитет и дужину контакта са инфективним изворо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нтагиозност узрочног микроорганизма, укључујући његову способност преживљавањ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оцедуре и кораке предузете од здравственог радника да избегне инфекциј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27576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ајважније заразне болести које могу пренети здравствени радниц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Кожне инфекциј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taphylococcus Aureus, Streptococcus grupe A, Herpes simple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Цревне болести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утна дијареја –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almonella spp, Campyulobacter</a:t>
            </a:r>
            <a:r>
              <a:rPr b="0" i="1" lang="sr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pp, Hepatitis A)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Респираторне болести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зеб, грип, ТБЦ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Болести које се преносе крвљ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ХБВ, ХИВ, ХЦВ, АИДС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изик за трансисију ХИВ је 100 пута нижи од ризика за ХБ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акциналне болести (Varicela zoster, морбил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Е УРИНАРНЕ ИНФЕКЦИЈЕ (УИ)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јчешћи тип нозокомијалних инфек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ко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%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И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повезано са ношењем уринарних катете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Е УРИНАРНЕ ИНФЕКЦИЈЕ (УИ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зазване су различитим патогенима, од којих многи улазе у састав ендогене флоре дебелог црева, нпр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Escherichia coli, Klebsiella spp, Proteus spp, Enterococcus spp, Enterobacter spp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Стопа инфекције расте са дужином ношења катетер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ајчешћи разлози за продор бактерија у мокраћну бешику за време катетеризације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непоштовање принципа асепсе при постављању катетер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непостојање везе између катетера и дренажног канал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контаминација за време иригациј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колонизација дренажне кесе и рефлукс контаминираног урина у мокраћну бешик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Е УРИНАРНЕ ИНФЕКЦИЈЕ (УИ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3054"/>
                </a:solidFill>
                <a:latin typeface="Arial"/>
              </a:rPr>
              <a:t>Фактори риз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тални уринарни катете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римена уролошких инструмена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тарији узра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Женски по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Тешка основна боле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Е ИНФЕКЦИЈЕ ОПЕРАТИВНОГ МЕСТА (ИОМ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Главни извор Мб и Мт оперисаних –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ко </a:t>
            </a:r>
            <a:r>
              <a:rPr b="1" lang="sr-CS" sz="2800" spc="-1" strike="noStrike">
                <a:solidFill>
                  <a:srgbClr val="003366"/>
                </a:solidFill>
                <a:latin typeface="Arial"/>
              </a:rPr>
              <a:t>1/3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вих ИХ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одужују хоспитализациј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Е ИНФЕКЦИЈЕ ОПЕРАТИВНОГ МЕСТА (ИОМ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3054"/>
                </a:solidFill>
                <a:latin typeface="Arial"/>
              </a:rPr>
              <a:t>Фактори ризи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одужен преоперативни боравак у болниц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оперативно бријање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оштећење коже, колонизациј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ужина операције (&gt; 2 сат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Хируршка техни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озитивна култура оперативног места + удаљена инфекц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тање пацијента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гојазност, малнутриција, дијабетес и с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ДЕФИНИЦИЈА БОЛНИЧКЕ</a:t>
            </a:r>
            <a:br>
              <a:rPr sz="3200"/>
            </a:b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ИНФЕКЦИЈ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Болничка ( интрахоспитална,  нозокомијална или кућна) инфекција је инфекција настала у пацијената и особља у болници или некој другој здравственој установ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За потребе епидемиолошког надзора болничка инфекција се дефинише као локално или системско обољење (стање) које је резултат непожељне реакције организма на присуство инфективног агенса (једног или више) или његових токсина, а које није било присутно нити је пацијент био у инкубацији приликом пријема у болницу или неку другу здравствену установ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* Категоризација оперативног места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према степену микробне контаминације)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e3054"/>
                </a:solidFill>
                <a:latin typeface="Arial"/>
              </a:rPr>
              <a:t>Чиста оперативна места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ране)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примарно затворене ран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I. </a:t>
            </a:r>
            <a:r>
              <a:rPr b="1" lang="en-US" sz="2000" spc="-1" strike="noStrike">
                <a:solidFill>
                  <a:srgbClr val="ee3054"/>
                </a:solidFill>
                <a:latin typeface="Arial"/>
              </a:rPr>
              <a:t>Чисто-контаминирана оперативна места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ране)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одире се у респираторни, дигестивни, генитални или уринарни систем под контрол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II. </a:t>
            </a:r>
            <a:r>
              <a:rPr b="1" lang="en-US" sz="2000" spc="-1" strike="noStrike">
                <a:solidFill>
                  <a:srgbClr val="ee3054"/>
                </a:solidFill>
                <a:latin typeface="Arial"/>
              </a:rPr>
              <a:t>Контаминирана оперативна места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ране)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творене свеже ране или операције са великим нарушавањем асептичне технике уз присуство инфициранх урина или жуч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V. </a:t>
            </a:r>
            <a:r>
              <a:rPr b="1" lang="en-US" sz="2000" spc="-1" strike="noStrike">
                <a:solidFill>
                  <a:srgbClr val="ee3054"/>
                </a:solidFill>
                <a:latin typeface="Arial"/>
              </a:rPr>
              <a:t>Прљава и инфицирана оперативна места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ране)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старе трауматичне ране са девитализованим ткивом, старим телима или фекалном контаминациј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А ПНЕУМОНИЈА (НП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Једна од најчешћих ИХИ (нарочито у јединицама интензивне неге са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ајвећим Мт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од свих ИХИ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~ 30%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одужава хоспитализацију и поскупљује лече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А ПНЕУМОНИЈА (НП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3054"/>
                </a:solidFill>
                <a:latin typeface="Arial"/>
              </a:rPr>
              <a:t>Фактори ризика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фактори који повећавају фреквенцију аспирације, количину или патогеност инокулираних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икроорганизама, оштећују локалну одбрану респираторног тракта и општи имунитет. Од највећег значаја су: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механичка вентилација и трахеална интуба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НОЗОКОМИЈАЛНЕ ИНФЕКЦИЈЕ КРВИ -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БАКТЕРИЈЕМИЈА И СЕПСА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 већини случајева у вези су са употребом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нтраваскуларних катете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т је висок (25-60%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марне -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ез препознатог фокуса инфекције на неком другом анатомском месту, са истим микроорганизм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екундарн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- последица документоване инфекције другог анатомског места, са истим микроорганизм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тиологија - Коагулаза негативни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Staphilococci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/4 ИК), 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Enterococci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Candid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spp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НОЗОКОМИЈАЛНЕ ИНФЕКЦИЈЕ КРВИ -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БАКТЕРИЈЕМИЈА И СЕПСА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e3054"/>
                </a:solidFill>
                <a:uFillTx/>
                <a:latin typeface="Arial"/>
              </a:rPr>
              <a:t>Фактори ризика:</a:t>
            </a:r>
            <a:r>
              <a:rPr b="0" lang="en-US" sz="2000" spc="-1" strike="noStrike">
                <a:solidFill>
                  <a:srgbClr val="ee305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Најмлађи и најстарији узрас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Гранулоцитопениј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Имуносупресивна хемиотерапиј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Губитак интегритета коже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нпр. опекотине, псоријаза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Тежина основне болест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Присуство удаљене инфекциј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Врста катетера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пластични &gt; челични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Величина катетер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Број лумена катетер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Локација катетера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централни &gt; периферни; в. феморалис &gt; в. југуларис / в. субклавиус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Начин постављања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дубоко &gt; перкутано; ургентно &gt; елективно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Дужина стајања катетер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Оштећење пацијентове кожне микрофлор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Непоштовање праксе прања руку персонал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НАЧАЈ Б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честалос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ежина обољењ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Цена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* продужена хоспитализациј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 повећана нега пацијена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 леков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ЦЕНА у зависности од: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врсте проузроковач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локализације инфекциј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патологије основне боле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ЕВЕНЦИЈА БОЛНИЧКИХ ИНФЕКЦИЈ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МОГУЋЕ СМАЊЕЊЕ СТОПЕ</a:t>
            </a:r>
            <a:r>
              <a:rPr b="1" lang="sr-CS" sz="2800" spc="-1" strike="noStrike">
                <a:solidFill>
                  <a:srgbClr val="003366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ко постоји активни епидемиолошки надзо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ко постоје писане препору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ко постоји особље (сестра за БИ, епидемиолог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►</a:t>
            </a:r>
            <a:r>
              <a:rPr b="1" lang="sr-CS" sz="3200" spc="-1" strike="noStrike" u="sng">
                <a:solidFill>
                  <a:srgbClr val="006666"/>
                </a:solidFill>
                <a:uFillTx/>
                <a:latin typeface="Arial"/>
              </a:rPr>
              <a:t>Центар за контролу болничких инфекција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: Класификација мера превенциј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3054"/>
                </a:solidFill>
                <a:uFillTx/>
                <a:latin typeface="Arial"/>
              </a:rPr>
              <a:t>Категорија </a:t>
            </a:r>
            <a:r>
              <a:rPr b="0" lang="sr-CS" sz="2400" spc="-1" strike="noStrike" u="sng">
                <a:solidFill>
                  <a:srgbClr val="ee3054"/>
                </a:solidFill>
                <a:uFillTx/>
                <a:latin typeface="Arial"/>
              </a:rPr>
              <a:t>1.</a:t>
            </a:r>
            <a:r>
              <a:rPr b="0" lang="en-US" sz="2400" spc="-1" strike="noStrike">
                <a:solidFill>
                  <a:srgbClr val="ee3054"/>
                </a:solidFill>
                <a:latin typeface="Arial"/>
              </a:rPr>
              <a:t> (мере чија је ефикасност доказана у студијам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ање рук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сепса током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лечења (уринарна сонда, ив-катетер, вештачка вентилациј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изолациј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терилизација и дезинфекција медицинско-хируршког материјал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ефинисање правилног коришћења антибиотика и антибиопрофилаксе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током 24 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756360" y="332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►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ЦДЦ: Класификација мера превенциј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4000" y="1700280"/>
            <a:ext cx="76928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3054"/>
                </a:solidFill>
                <a:uFillTx/>
                <a:latin typeface="Arial"/>
              </a:rPr>
              <a:t>Категорија </a:t>
            </a:r>
            <a:r>
              <a:rPr b="0" lang="sr-CS" sz="2000" spc="-1" strike="noStrike" u="sng">
                <a:solidFill>
                  <a:srgbClr val="ee3054"/>
                </a:solidFill>
                <a:uFillTx/>
                <a:latin typeface="Arial"/>
              </a:rPr>
              <a:t>2.</a:t>
            </a:r>
            <a:r>
              <a:rPr b="0" lang="en-US" sz="2000" spc="-1" strike="noStrike">
                <a:solidFill>
                  <a:srgbClr val="ee3054"/>
                </a:solidFill>
                <a:latin typeface="Arial"/>
              </a:rPr>
              <a:t> (ефикасност мера доказана на основу искуств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ишћење болниц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онтрола и едукациј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3054"/>
                </a:solidFill>
                <a:uFillTx/>
                <a:latin typeface="Arial"/>
              </a:rPr>
              <a:t>Категорија </a:t>
            </a:r>
            <a:r>
              <a:rPr b="0" lang="sr-CS" sz="2000" spc="-1" strike="noStrike" u="sng">
                <a:solidFill>
                  <a:srgbClr val="ee3054"/>
                </a:solidFill>
                <a:uFillTx/>
                <a:latin typeface="Arial"/>
              </a:rPr>
              <a:t>3.</a:t>
            </a:r>
            <a:r>
              <a:rPr b="0" lang="en-US" sz="2000" spc="-1" strike="noStrike">
                <a:solidFill>
                  <a:srgbClr val="ee3054"/>
                </a:solidFill>
                <a:latin typeface="Arial"/>
              </a:rPr>
              <a:t> (сумњива ефикасност, одбачене, контраверзне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утински бактериолошки брисеви радних површина и особљ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езинфекција подо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еконтаминација ваздуха у болесничким собама УВ лампам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Завршна дезинфекција формалин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ватернерне амонијумове базе за антисепсу кож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зувци за обућ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тирачи на улазу у одељење са антисептик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ПРЕВЕНЦИЈА УРИНАРНИХ ИНФЕКЦИЈ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ндикације за уринарни катетер свести на миниму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граничити дужину ношења катете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ристити затворени сист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штовати мере асепсе током постављања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тетера и ра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ање руку (антисептично), рукавице при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тављању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ерианална тоале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ЈЕДНА ИНФЕКЦИЈА СМАТРАЋЕ СЕ БОЛНИЧК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Ако је настала у болници и постала евидентна 48 сати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(типичан инкубациони период за већину бактеријских болничких инфекција) после пријема пацијента у болницу, или касниј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Ако се утврди да је повезана са хирушком интервенцијом, а испољи се у току 30 дана после хирушке интервенције у случају да имплантат није уграђен, или у току једне године ако је уграђе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Ако се испољила после отпуста пацијента из болнице, а епидемиолошки подаци показују да је настала у болниц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Ако је настала у новорођенчета као резултат пролаза кроз порођајни канал мајк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ПРЕВЕНЦИЈА УРИНАРНИХ ИНФЕКЦИЈ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Дискутабилне ме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Антирефлуксна валвула на кес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Убацивање антисептика или антибиотика у кес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Коришћење катетера импрегнираних АБ или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солима А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Штетне ме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Иригација мокраћне бешике АБ или антисептик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А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ЕВЕНЦИЈА ИНФЕКЦИЈА ОПЕРАТИВНОГ МЕСТ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МЕРЕ ПРЕ ОПЕРАЦИЈ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Смањити дужину боравка у болници пре операциј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Модификовати факторе домаћина (контрола гликемије, смањење ТТ, поправити малнутрицију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Преоперативно купањ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Бријање? (електрично, крема, дан раније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Антибиопрофилакса (24 х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МЕРЕ ТОКОМ ОПЕРАЦИЈ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Стриктно поштовање антисепсе кож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Хируршко прање руку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Маске, одело, кап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Рукавиц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Смањити број присутних у операционој сал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Ваздух: позитивни притисак, обнављање 15 пута/са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ПОСТОПЕРАТИВНЕ МЕР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Надзор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ЕВЕНЦИЈА ПНЕУМОНИЈ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Едукација особља и надзор над БИ (не узимати рутинске брисеве од пацијената и опреме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ПРЕВЕНЦИЈА ЕГЗОГЕНЕ ИНФЕКЦИЈ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ање рук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ошење рукавица за негу особа на вештачкој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ентилациј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езинфекција материјал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ористити стерилну воду за оксигенотерапију,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еросоле и хумидато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ористити стерилну назалну сонд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езервоар хумидатора мора бити опран, дезинфикован, испран и осушен сваког да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Црева хумидатора мењати на 48 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ЕВЕНЦИЈА ПНЕУМОНИЈ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3054"/>
                </a:solidFill>
                <a:latin typeface="Arial"/>
              </a:rPr>
              <a:t>ПРЕВЕНЦИЈА ЕНДОГЕНОГ РИЗ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3054"/>
                </a:solidFill>
                <a:latin typeface="Arial"/>
              </a:rPr>
              <a:t>ПРЕВЕНЦИЈА КОЛОНИЗАЦИЈЕ ДОЊИХ РЕ ПУТЕ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3054"/>
                </a:solidFill>
                <a:latin typeface="Arial"/>
              </a:rPr>
              <a:t>ПРЕВЕНЦИЈА КОЛОНИЗАЦИЈЕ ГОРЊИХ РЕ-ДИГ ПУТЕ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3054"/>
                </a:solidFill>
                <a:latin typeface="Arial"/>
              </a:rPr>
              <a:t>ОПШТЕ МЕРЕ ПРЕВЕНЦ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66"/>
                </a:solidFill>
                <a:latin typeface="Arial"/>
              </a:rPr>
              <a:t>ИНФЕКЦИЈЕ И СТАЊА КОЈА СЕ НЕ СМАТРАЈУ БОЛНИЧКОМ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6666"/>
                </a:solidFill>
                <a:latin typeface="Arial"/>
              </a:rPr>
              <a:t>ИНФЕКЦИЈОМ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Компликација раније настале инфекције или продужење инфекције присутне при пријему (осим ако промена узрочника или знакова и симптома не указују јасно на настанак нове инфекције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Колонизација, тј. присуство микроорганизама (на кожи, слузницама, у отвореним ранама или у екскретима и секретима) који не проузрокују клиничке знаке и симптом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Инфламација, стање које настаје као одговор ткива на повреду или стимулацију незаразним (неинфективним) агенсима, као што су хемикалије 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Инфекција новорођенчета за коју се зна или докаже да је настала трансплацентарно  (нпр. токсоплазмоза, рубела, цитомегало­вирусна инфекција,  или сифилис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66"/>
                </a:solidFill>
                <a:latin typeface="Arial"/>
              </a:rPr>
              <a:t>ПРИНЦИПИ Н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</a:t>
            </a:r>
            <a:r>
              <a:rPr b="1" lang="sl-SI" sz="3200" spc="-1" strike="noStrike">
                <a:solidFill>
                  <a:srgbClr val="006666"/>
                </a:solidFill>
                <a:latin typeface="Arial"/>
              </a:rPr>
              <a:t> КОЈИМА СЕ ЗАСНИВАЈУ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l-SI" sz="3200" spc="-1" strike="noStrike">
                <a:solidFill>
                  <a:srgbClr val="006666"/>
                </a:solidFill>
                <a:latin typeface="Arial"/>
              </a:rPr>
              <a:t>ДЕФИНИЦИЈЕ ИХ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3366"/>
                </a:solidFill>
                <a:latin typeface="Arial"/>
              </a:rPr>
              <a:t>За утврђивање присуства и класификацију ИХИ користе се комбинације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клиничких налаз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лабораторијских тестова 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других дијагностичких поступа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3366"/>
                </a:solidFill>
                <a:latin typeface="Arial"/>
              </a:rPr>
              <a:t>Ни превентабилност ни неизбежност</a:t>
            </a:r>
            <a:r>
              <a:rPr b="0" i="1" lang="sl-SI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3366"/>
                </a:solidFill>
                <a:latin typeface="Arial"/>
              </a:rPr>
              <a:t>једне инфекције не узимају се у разматраје при одређивању да ли је она болничка или 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66"/>
                </a:solidFill>
                <a:latin typeface="Arial"/>
              </a:rPr>
              <a:t>ПРИНЦИПИ Н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</a:t>
            </a:r>
            <a:r>
              <a:rPr b="1" lang="sl-SI" sz="3200" spc="-1" strike="noStrike">
                <a:solidFill>
                  <a:srgbClr val="006666"/>
                </a:solidFill>
                <a:latin typeface="Arial"/>
              </a:rPr>
              <a:t> КОЈИМА СЕ ЗАСНИВАЈУ ДЕФИНИЦИЈЕ ИХИ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Дефиниције ИХИ које се користе за епидемиолошки надзор нису намењене за друге сврх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Не постоји специфично време у току или после хоспитализације које би детерминисало једну инфекцију као болничку (изузеци су дати у дефиницијам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Свака инфекција мора бити индивидуално процењена како би се доказала њена повезаност са хоспитализациј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66"/>
                </a:solidFill>
                <a:latin typeface="Arial"/>
              </a:rPr>
              <a:t>ДЕФИНИЦИЈА ЕПИДЕМИЈЕ БОЛНИЧКЕ ИНФЕКЦИЈ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3366"/>
                </a:solidFill>
                <a:latin typeface="Arial"/>
              </a:rPr>
              <a:t>Појава болничких инфекција изазваних истим узрочником у броју који превазилази уобичајену учесталост у одређеној групи пацијената у датом временском период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3366"/>
                </a:solidFill>
                <a:latin typeface="Arial"/>
              </a:rPr>
              <a:t>Болничке инфекције које чине епидемију епидемиолошки су повезане, не само по месту и времену јављања, већ и по предузетим поступцима у дијагностици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l-SI" sz="2800" spc="-1" strike="noStrike">
                <a:solidFill>
                  <a:srgbClr val="003366"/>
                </a:solidFill>
                <a:latin typeface="Arial"/>
              </a:rPr>
              <a:t> нези и лечењу пацијена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ЗЕРВОАРИ  ИХ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Резервоар:  жива и нежива средина у којој инфективни агенс може да преживи и да се размножавана такав начин да може да се пренесе на осетљивог домаћ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Здравствени</a:t>
            </a:r>
            <a:r>
              <a:rPr b="1" lang="en-US" sz="1800" spc="-1" strike="noStrike" u="sng">
                <a:solidFill>
                  <a:srgbClr val="666699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радници</a:t>
            </a:r>
            <a:r>
              <a:rPr b="1" lang="en-US" sz="1800" spc="-1" strike="noStrike">
                <a:solidFill>
                  <a:srgbClr val="1f8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пацијент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су најзначајнији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жив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резервоари нозокомијалних агенас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д </a:t>
            </a:r>
            <a:r>
              <a:rPr b="1" lang="en-US" sz="1800" spc="-1" strike="noStrike">
                <a:solidFill>
                  <a:srgbClr val="ee3054"/>
                </a:solidFill>
                <a:latin typeface="Arial"/>
              </a:rPr>
              <a:t>неживих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резервоара најзначајнији извори су они који се односе на </a:t>
            </a:r>
            <a:r>
              <a:rPr b="1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воду</a:t>
            </a:r>
            <a:r>
              <a:rPr b="1" lang="en-US" sz="1800" spc="-1" strike="noStrike">
                <a:solidFill>
                  <a:srgbClr val="1f8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1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друге</a:t>
            </a:r>
            <a:r>
              <a:rPr b="1" lang="en-US" sz="1800" spc="-1" strike="noStrike" u="sng">
                <a:solidFill>
                  <a:srgbClr val="1f8fff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течности</a:t>
            </a:r>
            <a:r>
              <a:rPr b="0" lang="en-US" sz="1800" spc="-1" strike="noStrike">
                <a:solidFill>
                  <a:srgbClr val="1f8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40240" y="239544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ЛАСИФИКАЦИЈА БОЛНИЧКИХ ИНФЕКЦИЈА ПРЕМА АНАТОМСКОЈ ЛОКАЛИЗАЦИЈ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. ИНФЕКЦИЈЕ ОПЕРАТИВНОГ МЕС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Површинска инфекција оперативног места (инцизије, рез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Дубока инфекција оперативног места (инцизије, рез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Инфекција органа/простора оперативног мес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I. ИНФЕКЦИЈЕ МОКРАЋНОГ СИСТЕМ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Симптоматска инфекција мокраћног систем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Асимптоматска бактериуриј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Друге инфекције мокраћног систем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II. ПНЕУМОНИЈ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V. ИНФЕКЦИЈЕ КРВ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Лабораторијски потврђена инфекција крв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Клинички потврђена инфекција крви - сепс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20:33:35Z</dcterms:created>
  <dc:creator>Gordana</dc:creator>
  <dc:description/>
  <dc:language>en-US</dc:language>
  <cp:lastModifiedBy> </cp:lastModifiedBy>
  <dcterms:modified xsi:type="dcterms:W3CDTF">2017-01-09T10:50:26Z</dcterms:modified>
  <cp:revision>11</cp:revision>
  <dc:subject/>
  <dc:title>BOLNIČKE INFEK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rdana Đorđević">
    <vt:lpwstr>Medicinski fakultet Kragujevac</vt:lpwstr>
  </property>
</Properties>
</file>